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CDC-9EE7-43F7-AD92-7BF1D16B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A0B-1402-4856-A6C1-88BBF57B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14E-7EA5-4782-BAC0-3E5E9E86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241-633F-4A23-B401-04DF332F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FB7-577E-4211-8693-9EAEA8C5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653F-1F2B-4111-B423-C0339CEC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2EF9-0398-4F57-9033-8A3B9463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2F9F-0859-4592-986D-B8B3581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3A56-489C-49AA-9F6E-CA1195BC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2E4-26CC-476D-9548-93545690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649-0A58-40B3-A51E-E25405A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21B-B160-4FD6-9DD1-D8AD6DAF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FB6-999E-44F0-87F9-AF9174B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6A9-3CC5-477F-A7D3-BA2DA5B4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36F-85E3-43CF-B012-84D81CE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0779-3145-4ED1-B3A4-C32A281A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AEB5-9C2B-487E-AC21-CB7D5340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A07-C87C-4E0C-9D33-DC5EA2C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09C-6490-4E74-AEB6-CAB12D7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306-3478-4456-A2E6-490A912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5EC-0B51-4B23-9F55-136730CF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D79-2889-4384-B1AD-D9BD5B7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E7-2F4D-49B3-B3C3-4FEDF42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5D7-8CCC-408C-9060-5606A16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815-1CF7-4F2B-A036-EB743904D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EEBF-411A-483A-8981-CE32BD9D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Graphics and Animation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8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computer can save and interpret graphic images in a variety of formats. Some of the most common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 (Graphics Interchange Format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EG (Joint Photographic Experts Group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F (Tagged Information File Format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 (PICTur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P (bitmap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A (Targ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 (Portable Network Graphic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Editing Graphic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raphics editors have features for changing the sizes of images as well as their colors and other attributes. These includ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her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pp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-alias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34340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nimation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nimation is when images achieve the illusion of motion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068560"/>
            <a:ext cx="396216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Animation in Multimedia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ome common uses of animation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ted navigation button that changes when the cursor passes over it (rollover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ials using animated graphics for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ite advertisements that are animated to attract at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games using animation to simulate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are an element that virtually all multimedia applications includ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 graphic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graphic can be a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gra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648320" y="2666880"/>
            <a:ext cx="231444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095880" y="3886200"/>
            <a:ext cx="165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graphics look like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and Wh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y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graphics d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ca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 or demonstrate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s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visual app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Graphics Technolog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ages created or edited on computers are either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mapped graph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graph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bitmapped graphic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itmapped graphics, also known as raster graphics, consist of grids of tiny dots called pixels. Each pixel is assigned a colo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 continuous-tone image, such as a photo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map graphic editors are called pai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rging a bitmap graphic may cause the image to lose crispness and c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vector graphic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Vector graphics use mathematical formulas to define lines, curves, and other attributes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much smaller than raster graphic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graphic editors are called draw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lose clarity as you enlarge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 as bitmaps on computer monitors because computer monitors consist of pix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s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wo factors that determine graphics quality are resolution and color depth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is the number of pixels per i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 depth refers to the number of distinct colors an image can contain. It can range from 2-bit (black and white) to 24-bit (16.7 million color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2:10:31Z</dcterms:created>
  <dc:creator>Danielle Perkins</dc:creator>
  <dc:description/>
  <dc:language>en-US</dc:language>
  <cp:lastModifiedBy>GLENCOE</cp:lastModifiedBy>
  <dcterms:modified xsi:type="dcterms:W3CDTF">2003-01-04T01:07:27Z</dcterms:modified>
  <cp:revision>7</cp:revision>
  <dc:subject/>
  <dc:title>Chapter 8 Graphics and Animation</dc:title>
</cp:coreProperties>
</file>